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E974-ACD3-4861-B25D-1587FA045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5100-B032-4F6C-A485-405B0A7E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DAFC-A74D-4B2A-B30E-FF2BCBC2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CF26-38DB-4955-8B77-41FE9EBA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87F1-653B-4901-959F-87386390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1A21-3D42-4B7F-A620-15BDDE84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6AC4-9E88-4059-9385-D076A925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FAE0-A4BE-4669-85C1-430B6E8F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3437-B9B6-4845-A1C6-0A38E6BC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5A37-E02B-4339-8ABB-586C112B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1D9B-B691-41AD-860C-6542CB4E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4E4F-96F3-4A55-939D-179D1068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AE12-87B0-411B-AA3C-8A5DAC62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6111-210B-4C7C-B0A6-D8C6E744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07F1-DE36-45C8-B2A6-427627C7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786B-C1BD-4ADA-A313-2D640645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CD62-736F-4373-B454-BE70A9FA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91F2-E1A3-499A-AB14-E9EFB4AB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3B5E-B49A-432D-930A-F86C5DA1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850C-22C8-4E8B-B0AB-D8D0D036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C5F8-EA2E-4884-B858-FB93DF50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B7BB-B0DB-4C24-8D10-C8A7C7FF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58FC-4072-4E1E-8270-6BC08413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BBBD-DA1C-4AF5-8740-9B0DDABC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6871-2FE0-4EBA-B0B8-D5BD06E80C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A444-18B0-4E15-A1E3-EA683D7196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../FILE HO TRO BAI GIANG/MAU D&#416;N YEU CAU_DE NGHI.doc" TargetMode="External"/><Relationship Id="rId2" Type="http://schemas.openxmlformats.org/officeDocument/2006/relationships/hyperlink" Target="../FILE HO TRO BAI GIANG/MAU DON CHO SINH VIEN.doc" TargetMode="External"/><Relationship Id="rId3" Type="http://schemas.openxmlformats.org/officeDocument/2006/relationships/hyperlink" Target="../FILE HO TRO BAI GIANG/MAU THU XIN VIEC_SINH VIEN MOI TOT NGHIEP.doc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34920" y="44280"/>
            <a:ext cx="9109080" cy="681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66"/>
                </a:solidFill>
                <a:uFillTx/>
                <a:latin typeface="Arial"/>
              </a:rPr>
              <a:t>BÀI 9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KỸ THUẬT SOẠN THẢO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ĐƠN THƯ CÁ NHÂN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Ố TIẾT GiẢNG: 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3600" spc="-1" strike="noStrike">
                <a:solidFill>
                  <a:srgbClr val="000066"/>
                </a:solidFill>
                <a:latin typeface="VNI-Times"/>
              </a:rPr>
              <a:t>Ñoái vôùi ñôn toá caùo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Toá caùo ai? Toá caùo vieäc gì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Trình baøy ngaén goïn dieãn bieán söï vieäc xaûy ra (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thôøi gian, ñòa ñieåm, chuû theå thöïc hieän haønh vi, ngöôøi laøm chöùng…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Haäu quaû xaûy ra ñoái vôùi ngöôøi lieân qu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D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ö luaän quaàn chuù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4.3. </a:t>
            </a:r>
            <a:r>
              <a:rPr b="1" lang="vi-VN" sz="3600" spc="-1" strike="noStrike">
                <a:solidFill>
                  <a:srgbClr val="000066"/>
                </a:solidFill>
                <a:latin typeface="VNI-Times"/>
              </a:rPr>
              <a:t>Phaàn keát thuùc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L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ôøi cam keát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về 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tính xaùc thöïc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nhöõng noäi dung neâu trong ñôn vaø caùc taøi lieäu keøm theo (neáu coù)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Đề nghị ñöôïc giaûi quyeá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Lôøi chaøo traân troïng hoaëc lôøi caûm ôn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	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“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Trong khi chờ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ñ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ợi sự chấp thuận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(giaûi quyeát) 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của qu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yù cô quan 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…., t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oâi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 xin ch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aâ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n th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aø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nh cảm ơn”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VNI-Times"/>
              </a:rPr>
              <a:t>Moät soá maãu ñôn, th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Đơn yêu cầu, đề nghị</a:t>
            </a:r>
            <a:r>
              <a:rPr b="0" lang="en-US" sz="3600" spc="-1" strike="noStrike" u="sng">
                <a:solidFill>
                  <a:srgbClr val="336699"/>
                </a:solidFill>
                <a:uFillTx/>
                <a:latin typeface="Times New Roman"/>
                <a:hlinkClick r:id="rId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Đơn dành cho sinh viên</a:t>
            </a:r>
            <a:r>
              <a:rPr b="0" lang="en-US" sz="3600" spc="-1" strike="noStrike" u="sng">
                <a:solidFill>
                  <a:srgbClr val="336699"/>
                </a:solidFill>
                <a:uFillTx/>
                <a:latin typeface="Times New Roman"/>
                <a:hlinkClick r:id="rId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Thư xin việc</a:t>
            </a:r>
            <a:r>
              <a:rPr b="0" lang="en-US" sz="3600" spc="-1" strike="noStrike" u="sng">
                <a:solidFill>
                  <a:srgbClr val="336699"/>
                </a:solidFill>
                <a:uFillTx/>
                <a:latin typeface="Times New Roman"/>
                <a:hlinkClick r:id="rId3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www.tintuctuyensinh.org/images/news/img1/a-651.jpg"/>
          <p:cNvPicPr/>
          <p:nvPr/>
        </p:nvPicPr>
        <p:blipFill>
          <a:blip r:embed="rId1"/>
          <a:stretch/>
        </p:blipFill>
        <p:spPr>
          <a:xfrm>
            <a:off x="561960" y="476280"/>
            <a:ext cx="8082000" cy="4738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ulsasontay.edu.vn/upload/9860_1347245252_diem-thi-tot-nghiep-thpt-nam-2012.jpg"/>
          <p:cNvPicPr/>
          <p:nvPr/>
        </p:nvPicPr>
        <p:blipFill>
          <a:blip r:embed="rId2"/>
          <a:stretch/>
        </p:blipFill>
        <p:spPr>
          <a:xfrm>
            <a:off x="173160" y="1933560"/>
            <a:ext cx="3809880" cy="33526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642960" y="5286240"/>
            <a:ext cx="414324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NI-Thufap3"/>
              </a:rPr>
              <a:t>Chuùc thaønh coâ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5072040" y="5286240"/>
            <a:ext cx="350064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NI-Thufap3"/>
              </a:rPr>
              <a:t>Wish succes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8e"/>
                </a:solidFill>
                <a:latin typeface="Times New Roman"/>
              </a:rPr>
              <a:t>NHỮNG NỘI DUNG CHÍN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1. Khaùi nieäm ñôn, thö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2. Đaëc ñieåm cuûa ñôn, thö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3. Caùc loaïi ñôn, thö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4. Phương phaùp soaïn thaûo ñôn, thö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5. Maãu moät soá loaïi ñôn, thö caù nhaân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1. Khái niệm </a:t>
            </a: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ñôn, thö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Taøi lieäu theå hieän yù chí, nguyeän voïng, mong muoán 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cuûa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caù nhaân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Hình thaønh trong quaù trình tham gia caùc quan heä xaõ hoäi cuûa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Coâng cuï ñeå thöïc hieän vaø baûo veä quyeàn, lôïi ích hôïp phaùp cuûa caù nhaân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2. Ñaëc ñieåm cuûa ñôn, thö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VNI-Times"/>
              </a:rPr>
              <a:t>Chuû theå: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 caù nhaân coù naêng löïc haønh vi daân söï ñaày ñuû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VNI-Times"/>
              </a:rPr>
              <a:t>Noäi dung: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 yù chí, mong muoán cuûa caù nhaâ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VNI-Times"/>
              </a:rPr>
              <a:t>Muïc ñích: 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thöïc hieän vaø baûo veä quyeàn, lôïi ích hôïp phaùp cuûa caù nhaâ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VNI-Times"/>
              </a:rPr>
              <a:t>Ñieàu kieän ban haønh: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 theo quy ñònh cuûa phaùp luaät hoaëc yù chí cuûa caù nhaâ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VNI-Times"/>
              </a:rPr>
              <a:t>Theå thöùc: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 theo quy ñònh chu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imes New Roman"/>
              </a:rPr>
              <a:t>3. Các loại đơn, thư cá nhâ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08600" indent="-4086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Ñôn ñeà nghò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(ñeà ñaït nguyeän voïng)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Ñôn yeâu caàu (giaûi quyeát vuï vieäc)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Ñôn khaùng caùo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Ñôn, thư xin vieäc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Ñôn khieáu naïi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, 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toá caùo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Di chuùc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imes New Roman"/>
              </a:rPr>
              <a:t>4. Cấu trúc và cách soạn th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Phần mở ñaà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Phaàn noäi du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Phaàn keát thuù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4.1. </a:t>
            </a:r>
            <a:r>
              <a:rPr b="1" lang="vi-VN" sz="3600" spc="-1" strike="noStrike">
                <a:solidFill>
                  <a:srgbClr val="000066"/>
                </a:solidFill>
                <a:latin typeface="VNI-Times"/>
              </a:rPr>
              <a:t>Phaàn </a:t>
            </a: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môû ñaàu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Giôùi thieäu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 toùm taét ñaëc ñieåm veà nhaân thaân cuûa chuû theå vieát ñôn:</a:t>
            </a:r>
            <a:r>
              <a:rPr b="1" lang="en-US" sz="3200" spc="-1" strike="noStrike">
                <a:solidFill>
                  <a:srgbClr val="000066"/>
                </a:solidFill>
                <a:latin typeface="VNI-Tim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Hoï vaø teân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Ng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aø</a:t>
            </a: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y th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aù</a:t>
            </a: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ng năm sinh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Chứng minh nhaân daân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Chöùc v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uï </a:t>
            </a: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(neáu coù)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Ñôn vò coâng taùc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Ñòa chæ cö truù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Soá ñieän thoaïi lieân laïc; E-mai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4.2. Phaàn noäi dung moät soá loaïi ñô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3400" spc="-1" strike="noStrike">
                <a:solidFill>
                  <a:srgbClr val="000066"/>
                </a:solidFill>
                <a:latin typeface="VNI-Times"/>
              </a:rPr>
              <a:t>Ñoái vôùi ñôn ñeà nghò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Nguyeän voïng cuûa ngö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ôø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i vieát ñôn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Hoaøn caûnh cuûa ngöôøi vieát ñôn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Caùc cô sôû 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cuûa 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nguyeän voïng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L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yù do vieát ñôn ñeà nghò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Caùc ñeà nghò cuï theå caàn 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ñöôïc 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xem xeùt giaûi quyeát.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3600" spc="-1" strike="noStrike">
                <a:solidFill>
                  <a:srgbClr val="000066"/>
                </a:solidFill>
                <a:latin typeface="VNI-Times"/>
              </a:rPr>
              <a:t>Ñoái vôùi ñôn khieáu naïi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-39924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Neâu roõ ñoái töôïng khieáu naïi: 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Q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uyeát ñònh haønh chính hay haønh vi haønh chính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Noäi dung khieáu naïi: 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t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oùm taét vuï vieäc xaûy ra; quyeàn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, 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lôïi ích bò xaâm phaïm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; 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thieät haïi vaät chaát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, tinh thaàn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Ñeà nghò cuï theå khoâi phuïc quyeàn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,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 lôïi ích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 bò xaâm phaïm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, 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möùc 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boài thöôøng thieät haïi.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2:33:18Z</dcterms:created>
  <dc:creator>Bài giảng QTVP_Thầy Nam Hà</dc:creator>
  <dc:description/>
  <dc:language>en-US</dc:language>
  <cp:lastModifiedBy>ntc</cp:lastModifiedBy>
  <dcterms:modified xsi:type="dcterms:W3CDTF">2013-08-09T10:59:29Z</dcterms:modified>
  <cp:revision>68</cp:revision>
  <dc:subject/>
  <dc:title>Chương 9.8</dc:title>
</cp:coreProperties>
</file>